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90C-9CA0-4C90-870C-94ED266D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EE0-C89D-4F36-8A09-C53B40A2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149-1372-4FB8-8DCC-43757569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A7C-5A06-4AD7-B0F5-3A6BF496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F83-5A65-4BD8-961E-A1D75767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7C3-38B0-40FA-B52D-8A7E472B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B01-4F1D-457E-A961-4D47B0E1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656-DF5D-4D10-B861-AFD421B5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77B-6E65-459D-B5C9-58E4D3A7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BDB-4381-45F9-B8DA-91135623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38E-A337-413B-93E8-4C4DCD99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65A-0F7D-49ED-A505-1B8048A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1CB-9950-4AC8-8AD0-C3310217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 and Air Pressure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a piece of notebook paper and number from 1 –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core bin when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15627" r="25782" b="52084"/>
          <a:stretch/>
        </p:blipFill>
        <p:spPr>
          <a:xfrm>
            <a:off x="0" y="304920"/>
            <a:ext cx="9144000" cy="2984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4572360"/>
            <a:ext cx="73944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Which photo shows a lower than normal barometric pressure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Wetl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626" t="19791" r="44535" b="54166"/>
          <a:stretch/>
        </p:blipFill>
        <p:spPr>
          <a:xfrm>
            <a:off x="0" y="622440"/>
            <a:ext cx="9144000" cy="44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1040" y="5256720"/>
            <a:ext cx="79819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ou can compare temperatures just by looking at a temperature bar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88" t="19580" r="44446" b="52862"/>
          <a:stretch/>
        </p:blipFill>
        <p:spPr>
          <a:xfrm>
            <a:off x="0" y="981000"/>
            <a:ext cx="8991720" cy="389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4801320"/>
            <a:ext cx="81532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the lowest temperature on the bar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5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3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2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4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15627" r="25003" b="52084"/>
          <a:stretch/>
        </p:blipFill>
        <p:spPr>
          <a:xfrm>
            <a:off x="0" y="609480"/>
            <a:ext cx="9144000" cy="2954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760" y="4192200"/>
            <a:ext cx="65055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emperature bar graphs show 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Highest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emperatures at differe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ll answers are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Lowest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5627" r="26564" b="51046"/>
          <a:stretch/>
        </p:blipFill>
        <p:spPr>
          <a:xfrm>
            <a:off x="0" y="45720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5760" y="4800960"/>
            <a:ext cx="3320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t what time is it 72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5627" r="24220" b="52084"/>
          <a:stretch/>
        </p:blipFill>
        <p:spPr>
          <a:xfrm>
            <a:off x="0" y="533520"/>
            <a:ext cx="9144000" cy="292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4560" y="58053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343400"/>
            <a:ext cx="8686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Temperature bar graphs are a good visual for displaying extremes of high and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5155" r="26852" b="51179"/>
          <a:stretch/>
        </p:blipFill>
        <p:spPr>
          <a:xfrm>
            <a:off x="0" y="838080"/>
            <a:ext cx="9144000" cy="23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267800"/>
            <a:ext cx="8991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The balloon experiment proves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ir has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 balloon with more air is lighter than a balloon with littl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On the side that tipped downward, the balloon was ligh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5627" r="27343" b="52084"/>
          <a:stretch/>
        </p:blipFill>
        <p:spPr>
          <a:xfrm>
            <a:off x="76320" y="914400"/>
            <a:ext cx="9067680" cy="302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877280"/>
            <a:ext cx="7921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hanging barometric pressure usually means a change in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30492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496400"/>
            <a:ext cx="6734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Rising barometric pressure usually b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unnier s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loudy skies and 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o difference in the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18:55Z</dcterms:created>
  <dc:creator>skrial</dc:creator>
  <dc:description/>
  <dc:language>en-US</dc:language>
  <cp:lastModifiedBy>skrial</cp:lastModifiedBy>
  <dcterms:modified xsi:type="dcterms:W3CDTF">2010-01-11T12:19:56Z</dcterms:modified>
  <cp:revision>1</cp:revision>
  <dc:subject/>
  <dc:title>Temperature and Air Pressure Quizzes</dc:title>
</cp:coreProperties>
</file>